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4D1-C2E8-4022-B21F-1ED82DA6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B38-BC92-43EC-9105-2476568C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39B7-B98E-4DCE-81AC-5A090139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DE0-CB48-4102-9308-3767B918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276-7057-4890-88E0-521AF6D4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2326-6407-426E-A51E-0DB70106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A14-4721-4C4D-A730-9D9C5FF3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E87-05F8-42AE-BD82-D08D10A7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2B8-BFA0-431D-BA0F-5C16A5EA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D637-698F-443F-B096-0606B667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571-0760-43D1-B649-170343A0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291-4A9E-422B-B05C-A82D02EE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E919-4B4A-444B-A7DA-A26439848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0"/>
            <a:ext cx="61722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29718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4317840" cy="324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 rot="16200000">
            <a:off x="-171000" y="3295080"/>
            <a:ext cx="4647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95 SETU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 rot="16200000">
            <a:off x="814320" y="5128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29000" y="762120"/>
            <a:ext cx="4038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elcome to N95 setup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2133720"/>
            <a:ext cx="228600" cy="22860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2819520"/>
            <a:ext cx="228600" cy="22860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05320" y="3505320"/>
            <a:ext cx="228600" cy="22860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62520" y="2133720"/>
            <a:ext cx="904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ipicl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62520" y="2819520"/>
            <a:ext cx="904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usto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62520" y="3505320"/>
            <a:ext cx="904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sonol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6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Image result for windows 95 s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2286000" y="4191120"/>
            <a:ext cx="132876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76720" y="4648320"/>
            <a:ext cx="2514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95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5689800" cy="4268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0" y="6629400"/>
            <a:ext cx="91440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Image result for windows 95 desktop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515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20" y="6477120"/>
            <a:ext cx="12189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6477120"/>
            <a:ext cx="507960" cy="380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295280" y="6477120"/>
            <a:ext cx="7848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53280" y="6477120"/>
            <a:ext cx="9907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35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6477120"/>
            <a:ext cx="8380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Image result for windows 95 desktop background toolbar icon spaeker"/>
          <p:cNvPicPr/>
          <p:nvPr/>
        </p:nvPicPr>
        <p:blipFill>
          <a:blip r:embed="rId3"/>
          <a:stretch/>
        </p:blipFill>
        <p:spPr>
          <a:xfrm>
            <a:off x="7696080" y="6477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Image result for windows 95 desktop background toolbar icon spaeker"/>
          <p:cNvPicPr/>
          <p:nvPr/>
        </p:nvPicPr>
        <p:blipFill>
          <a:blip r:embed="rId4"/>
          <a:stretch/>
        </p:blipFill>
        <p:spPr>
          <a:xfrm>
            <a:off x="304920" y="228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Image result for windows 95 desktop background toolbar icon spaeker"/>
          <p:cNvPicPr/>
          <p:nvPr/>
        </p:nvPicPr>
        <p:blipFill>
          <a:blip r:embed="rId5"/>
          <a:stretch/>
        </p:blipFill>
        <p:spPr>
          <a:xfrm>
            <a:off x="7391520" y="6477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28600" y="914400"/>
            <a:ext cx="776160" cy="1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y computer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4" name="" descr="Image result for windows 95 desktop background icon reacycle bin"/>
          <p:cNvPicPr/>
          <p:nvPr/>
        </p:nvPicPr>
        <p:blipFill>
          <a:blip r:embed="rId6"/>
          <a:stretch/>
        </p:blipFill>
        <p:spPr>
          <a:xfrm>
            <a:off x="304920" y="1219320"/>
            <a:ext cx="685800" cy="5824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28600" y="1905120"/>
            <a:ext cx="762120" cy="16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acycle bin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6" name="" descr="Image result for windows 95 desktop icon inbox"/>
          <p:cNvPicPr/>
          <p:nvPr/>
        </p:nvPicPr>
        <p:blipFill>
          <a:blip r:embed="rId7"/>
          <a:stretch/>
        </p:blipFill>
        <p:spPr>
          <a:xfrm>
            <a:off x="-304920" y="1981080"/>
            <a:ext cx="1676520" cy="9432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2819520"/>
            <a:ext cx="343080" cy="16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box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Image result for windows 95 desktop icon inbox"/>
          <p:cNvPicPr/>
          <p:nvPr/>
        </p:nvPicPr>
        <p:blipFill>
          <a:blip r:embed="rId8"/>
          <a:stretch/>
        </p:blipFill>
        <p:spPr>
          <a:xfrm>
            <a:off x="-228600" y="2971800"/>
            <a:ext cx="1523880" cy="857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228600" y="3657600"/>
            <a:ext cx="72396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internet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0" name="" descr="Image result for windows 95 desktop icon microsoft network"/>
          <p:cNvPicPr/>
          <p:nvPr/>
        </p:nvPicPr>
        <p:blipFill>
          <a:blip r:embed="rId9"/>
          <a:stretch/>
        </p:blipFill>
        <p:spPr>
          <a:xfrm>
            <a:off x="152280" y="3962520"/>
            <a:ext cx="857520" cy="6602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52280" y="4724280"/>
            <a:ext cx="81936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gram files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2" name="" descr="Image result for windows 95 desktop icon microsoft network"/>
          <p:cNvPicPr/>
          <p:nvPr/>
        </p:nvPicPr>
        <p:blipFill>
          <a:blip r:embed="rId10"/>
          <a:stretch/>
        </p:blipFill>
        <p:spPr>
          <a:xfrm>
            <a:off x="152280" y="4952880"/>
            <a:ext cx="800280" cy="594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04920" y="5638680"/>
            <a:ext cx="504720" cy="1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tepad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71800" y="0"/>
            <a:ext cx="61722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29718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4317840" cy="3240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 rot="16200000">
            <a:off x="-171000" y="3295080"/>
            <a:ext cx="4647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95 SETU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 rot="16200000">
            <a:off x="814320" y="5128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96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1523880"/>
            <a:ext cx="22860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743200"/>
            <a:ext cx="22860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1219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05320" y="1219320"/>
            <a:ext cx="9144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me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05320" y="2362320"/>
            <a:ext cx="2485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ssword for computer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3413520" y="26496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 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971800" y="0"/>
            <a:ext cx="61722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29718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76720" y="38088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4317840" cy="3240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276720" y="838080"/>
            <a:ext cx="4647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95 SETU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96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350532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72200" y="350532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35053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52880" y="3657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36576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657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362320"/>
            <a:ext cx="228600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895480"/>
            <a:ext cx="167652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4038480"/>
            <a:ext cx="1371600" cy="1447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295280" y="2743200"/>
            <a:ext cx="1193760" cy="895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838080" y="3657600"/>
            <a:ext cx="12956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95 SETU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8080" y="3429000"/>
            <a:ext cx="59076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5181480"/>
            <a:ext cx="12193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267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876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5029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419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4160" y="2438280"/>
            <a:ext cx="26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the n95 pass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9400" y="175248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1800" y="0"/>
            <a:ext cx="61722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457200"/>
            <a:ext cx="5867640" cy="5562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29718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 rot="16200000">
            <a:off x="814320" y="5128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4317840" cy="3240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 rot="16200000">
            <a:off x="-171000" y="3295080"/>
            <a:ext cx="4647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95 SETU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066680"/>
            <a:ext cx="53341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Gmt - 8.00]pasific time (US &amp; can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1447920"/>
            <a:ext cx="533412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152280"/>
            <a:ext cx="106704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z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10666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10480" y="1066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5791320"/>
            <a:ext cx="1522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360" y="5335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533412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419720" y="14479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657600" y="5791320"/>
            <a:ext cx="403848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utomaticaly adjest clock for daylight saving changes 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1800" y="0"/>
            <a:ext cx="61722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29718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16200000">
            <a:off x="814320" y="5128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609480" y="-380880"/>
            <a:ext cx="4317840" cy="324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 rot="16200000">
            <a:off x="-171000" y="3295080"/>
            <a:ext cx="4647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95 SETU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96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743200"/>
            <a:ext cx="449604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7432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9718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vie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32004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ycle 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4290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36576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8862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bar short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9880" y="41148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3434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xal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5720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 X  bunny Internet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9880" y="48006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50292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 cooker t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2743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9880" y="3886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14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9880" y="4343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988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4800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9880" y="502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988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0200" y="341280"/>
            <a:ext cx="21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TOP  I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20960" y="1789200"/>
            <a:ext cx="47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tick the desktop icons you want for n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71800" y="0"/>
            <a:ext cx="61722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29718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16200000">
            <a:off x="814320" y="5128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762120" y="-457200"/>
            <a:ext cx="4318200" cy="3240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 rot="16200000">
            <a:off x="-171000" y="3295080"/>
            <a:ext cx="4647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95 SETU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6553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95120" y="341280"/>
            <a:ext cx="33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 PANEL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72160" y="1332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48840" y="27036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38480" y="32004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38480" y="3581280"/>
            <a:ext cx="1526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1981080"/>
            <a:ext cx="4572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153280" y="19810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9960" y="30481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194360" y="3505320"/>
            <a:ext cx="24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aver (profile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971800" y="0"/>
            <a:ext cx="61722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718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 rot="16200000">
            <a:off x="814320" y="5128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762120" y="-457200"/>
            <a:ext cx="4318200" cy="3240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 rot="16200000">
            <a:off x="-171000" y="3295080"/>
            <a:ext cx="4647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95 SETU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96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5720" y="4572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743200"/>
            <a:ext cx="449604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27432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29718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32004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po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9880" y="34290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po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36576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po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38862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al po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1148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al por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43434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al por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9880" y="45720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nd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48006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5029200"/>
            <a:ext cx="4496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2743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3200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3429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657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3886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4114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4343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45720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48006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5029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96920" y="1712880"/>
            <a:ext cx="38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tick what you like to add to n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71800" y="0"/>
            <a:ext cx="6172200" cy="685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29718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 rot="16200000">
            <a:off x="814320" y="5128920"/>
            <a:ext cx="11239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cro 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762120" y="-457200"/>
            <a:ext cx="4318200" cy="3240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 rot="16200000">
            <a:off x="-171000" y="3295080"/>
            <a:ext cx="4647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95 SETUP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96080" y="6324480"/>
            <a:ext cx="106704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1480" y="304920"/>
            <a:ext cx="54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 COMPUTER &amp; FLOPPY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64840" y="87480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is the floppy controll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76720" y="1371600"/>
            <a:ext cx="5410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1880" y="13716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452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3809880"/>
            <a:ext cx="54100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3809880"/>
            <a:ext cx="39621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16400" y="33130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ing to restart your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76720" y="27432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9040" y="26668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ready to restart my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TING READY TO RUN N95 FOR THE FIRST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 rot="20466600">
            <a:off x="152280" y="6095880"/>
            <a:ext cx="1193760" cy="8953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Image result for windows 95 setup background"/>
          <p:cNvPicPr/>
          <p:nvPr/>
        </p:nvPicPr>
        <p:blipFill>
          <a:blip r:embed="rId2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15T09:49:18Z</dcterms:created>
  <dc:creator>theviru</dc:creator>
  <dc:description/>
  <dc:language>en-US</dc:language>
  <cp:lastModifiedBy>theviru</cp:lastModifiedBy>
  <dcterms:modified xsi:type="dcterms:W3CDTF">2021-02-16T15:39:23Z</dcterms:modified>
  <cp:revision>13</cp:revision>
  <dc:subject/>
  <dc:title>Slide 1</dc:title>
</cp:coreProperties>
</file>